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CDFC-62B7-4F17-8266-E7D552ED2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F6A5-369F-4DB3-9973-E14750DCD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4B55-5B4C-4985-BC5B-60B5769D6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0133-8725-4430-810F-C47A420B0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7E7E6-0084-426E-8AD3-53B0666B7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18F35-0237-458B-8622-7C869266D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9AD2C-BCDA-4784-942C-8B2A90575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3B1DB-7A49-4EF5-AE8F-F9E30EF23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8530A-9F07-499B-92F6-615FFA0D8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4EAF9-093A-4157-A5BF-73125DC7B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081CD-46E5-4036-9B0B-65D0A8FCE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483E-ADEE-4FBD-A071-BA1304EEC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C8C0A-249A-499E-A926-13000F17A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A45E1-8843-457A-8BB7-49FF58706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C4822-825F-4620-AFAE-778529A38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5D9C4-E0EB-477A-A296-F9C3BECA0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D4CDA-BEE9-4191-8232-7D573D119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4B59-3E1B-4768-8298-231F8CB68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F9A3-2560-4FA0-A261-CB0A8F572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1AB9-D4E0-4D8A-A46A-ACC029F3F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2481-C9B4-4367-92FA-4C87EDE9E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A853-1ACE-477A-9F35-C6D5C34DD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563F-1E9C-44ED-8F55-D590E829C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0B7B-4149-46AA-AC57-8F5F349D1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992E5-F716-4377-9EE3-61F42643886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7C148-4FCF-4D54-8D4C-F75EC23435C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610920" y="1773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Выпуск листовок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«Новости недели»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rcRect l="16947" t="7665" r="9709" b="7888"/>
          <a:stretch/>
        </p:blipFill>
        <p:spPr>
          <a:xfrm>
            <a:off x="3276720" y="4076640"/>
            <a:ext cx="232416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549000"/>
            <a:ext cx="8001000" cy="97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И смех, и грех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чера вечером в Парке культуры и отдыха были слышны выстрелы. Наряд патрульно-постовой службы преследовал пытавшегося скрыться преступника Михаила С. по кличке Мастер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адержание  произошло при довольно курьезных обстоятельствах. Начнем с того, что полицейские совершенно случайно столкнулись с мастером, когда подошли купить лимонад к тому же самому ларьку, где отоваривался злоумышленник. Решив, что его собираются задержать, преступник, который накануне совершил  кражу, дал стрекача. Ему почти удалось оторваться в парке от вначале оторопевших, но затем бросившихся в погоню сотрудников полиции. Однако незадачливый злодей в темноте зацепился ногой за поливочный шланг. От неожиданности у Михаила С. случился острый приступ сердечной недостаточност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ейчас преступник  лежит в реанимационном отделении больницы № 4 под зорким наблюдением врачей, которые сделают все для того, чтобы поставить преступника на ноги, – он должен сполна ответить перед обществом за свои злодеяни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Picture 4" descr="Рисунок4"/>
          <p:cNvPicPr/>
          <p:nvPr/>
        </p:nvPicPr>
        <p:blipFill>
          <a:blip r:embed="rId1"/>
          <a:stretch/>
        </p:blipFill>
        <p:spPr>
          <a:xfrm>
            <a:off x="7451640" y="5683320"/>
            <a:ext cx="139068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ажные рекомендаци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1752120"/>
            <a:ext cx="8424720" cy="46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. Начинайте писать информацию с самого интересного сло­ва, лучше с неожиданной реплики, сравнен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. Не пишите чрезмерно длинных предложений с обильной пунктуацией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3. В информации не должно быть лишних слов, сообщение должно быть кратким, лаконич­ны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4. Избегайте неоправданного повтора сл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5. В информации не употребляют таких слов, как «на днях», «недавно»; лучше - «сегодня», в крайнем случае - «вчера»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6. Информация должна быть точной, чтобы не подорвать до­верие к газете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7. Не забудьте придумать заголовок к заметке, который должен привлечь внимание читател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8. Он должен быть кратким, но ёмким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Picture 4" descr="Рисунок4"/>
          <p:cNvPicPr/>
          <p:nvPr/>
        </p:nvPicPr>
        <p:blipFill>
          <a:blip r:embed="rId1"/>
          <a:stretch/>
        </p:blipFill>
        <p:spPr>
          <a:xfrm>
            <a:off x="7524720" y="5805360"/>
            <a:ext cx="1390680" cy="9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938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Picture 4" descr="Рисунок6"/>
          <p:cNvPicPr/>
          <p:nvPr/>
        </p:nvPicPr>
        <p:blipFill>
          <a:blip r:embed="rId1"/>
          <a:stretch/>
        </p:blipFill>
        <p:spPr>
          <a:xfrm>
            <a:off x="2195640" y="981000"/>
            <a:ext cx="4464000" cy="43927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6"/>
          <p:cNvSpPr/>
          <p:nvPr/>
        </p:nvSpPr>
        <p:spPr>
          <a:xfrm>
            <a:off x="1962360" y="3357720"/>
            <a:ext cx="5607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Спасибо за внимание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Picture 4" descr="Рисунок4"/>
          <p:cNvPicPr/>
          <p:nvPr/>
        </p:nvPicPr>
        <p:blipFill>
          <a:blip r:embed="rId2"/>
          <a:stretch/>
        </p:blipFill>
        <p:spPr>
          <a:xfrm>
            <a:off x="7388280" y="5157720"/>
            <a:ext cx="1512720" cy="9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Цель: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ознакомиться  с правилами подачи информации в заметк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аучиться писать заметку, следуя закону перевёрнутой пирамиды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Picture 4" descr="Рисунок4"/>
          <p:cNvPicPr/>
          <p:nvPr/>
        </p:nvPicPr>
        <p:blipFill>
          <a:blip r:embed="rId1"/>
          <a:stretch/>
        </p:blipFill>
        <p:spPr>
          <a:xfrm>
            <a:off x="6948360" y="4869000"/>
            <a:ext cx="151308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Информация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– это  сведения о лицах, предметах, фактах, событиях, явлениях и процессах независимо от формы их представления. В газете это текст, по радио – это аудиоматериал, а телевидение предоставляет нам видео-картинку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4" descr="Рисунок4"/>
          <p:cNvPicPr/>
          <p:nvPr/>
        </p:nvPicPr>
        <p:blipFill>
          <a:blip r:embed="rId1"/>
          <a:stretch/>
        </p:blipFill>
        <p:spPr>
          <a:xfrm>
            <a:off x="7093080" y="5084640"/>
            <a:ext cx="1512720" cy="9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Заметка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– это разновидность горячей новости. Её содержанием становится отдельный факт, отдельное событие, состояние дел. Она может включать краткое изложение предыстории факта, события или явления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Picture 5" descr="Рисунок4"/>
          <p:cNvPicPr/>
          <p:nvPr/>
        </p:nvPicPr>
        <p:blipFill>
          <a:blip r:embed="rId1"/>
          <a:stretch/>
        </p:blipFill>
        <p:spPr>
          <a:xfrm>
            <a:off x="7093080" y="5084640"/>
            <a:ext cx="139068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17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Вспомним Редьярда Киплинга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36680" indent="-43668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сть у меня шестерка слуг, Проворных, удалых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 все, что вижу я вокруг, —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се знаю я от них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ни по знаку моему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Являются в нужде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овут их: Как и Почему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то, Что, Когда и Где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(Перевод С. Маршака.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4" descr="Рисунок4"/>
          <p:cNvPicPr/>
          <p:nvPr/>
        </p:nvPicPr>
        <p:blipFill>
          <a:blip r:embed="rId1"/>
          <a:stretch/>
        </p:blipFill>
        <p:spPr>
          <a:xfrm>
            <a:off x="7164360" y="5229360"/>
            <a:ext cx="139068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17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Заметка отвечает на основные вопросы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844640"/>
            <a:ext cx="800100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Кто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был участником или виновником события?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Что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произошло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Где?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Когда?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Как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это было?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Почему?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По какой причине?</a:t>
            </a:r>
            <a:br>
              <a:rPr sz="2400"/>
            </a:b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Результат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Picture 4" descr="Рисунок4"/>
          <p:cNvPicPr/>
          <p:nvPr/>
        </p:nvPicPr>
        <p:blipFill>
          <a:blip r:embed="rId1"/>
          <a:stretch/>
        </p:blipFill>
        <p:spPr>
          <a:xfrm>
            <a:off x="7093080" y="5084640"/>
            <a:ext cx="1512720" cy="943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Рисунок7"/>
          <p:cNvPicPr/>
          <p:nvPr/>
        </p:nvPicPr>
        <p:blipFill>
          <a:blip r:embed="rId2"/>
          <a:stretch/>
        </p:blipFill>
        <p:spPr>
          <a:xfrm>
            <a:off x="0" y="3859200"/>
            <a:ext cx="316872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Принцип перевёрнутой пирамид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Объект 3" descr="https://ic.pics.livejournal.com/red_mskt/84909513/48474/48474_original.jpg"/>
          <p:cNvPicPr/>
          <p:nvPr/>
        </p:nvPicPr>
        <p:blipFill>
          <a:blip r:embed="rId1"/>
          <a:srcRect l="19945" t="27366" r="20213" b="5111"/>
          <a:stretch/>
        </p:blipFill>
        <p:spPr>
          <a:xfrm>
            <a:off x="1832040" y="1785960"/>
            <a:ext cx="5470560" cy="42004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Рисунок4"/>
          <p:cNvPicPr/>
          <p:nvPr/>
        </p:nvPicPr>
        <p:blipFill>
          <a:blip r:embed="rId2"/>
          <a:stretch/>
        </p:blipFill>
        <p:spPr>
          <a:xfrm>
            <a:off x="7524720" y="5445000"/>
            <a:ext cx="1513080" cy="9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Нормы общения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buClr>
                <a:srgbClr val="cc0000"/>
              </a:buClr>
              <a:buSzPct val="25000"/>
              <a:buFont typeface="Wingdings" charset="2"/>
              <a:buChar char="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Calibri"/>
              </a:rPr>
              <a:t>Говорим по очереди, не перебиваем друг друг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buClr>
                <a:srgbClr val="cc0000"/>
              </a:buClr>
              <a:buSzPct val="25000"/>
              <a:buFont typeface="Wingdings" charset="2"/>
              <a:buChar char="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Calibri"/>
              </a:rPr>
              <a:t>Разводим вопросы и суждения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buClr>
                <a:srgbClr val="cc0000"/>
              </a:buClr>
              <a:buSzPct val="25000"/>
              <a:buFont typeface="Wingdings" charset="2"/>
              <a:buChar char="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Calibri"/>
              </a:rPr>
              <a:t>Говорим по существу вопрос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buClr>
                <a:srgbClr val="cc0000"/>
              </a:buClr>
              <a:buSzPct val="25000"/>
              <a:buFont typeface="Wingdings" charset="2"/>
              <a:buChar char="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Calibri"/>
              </a:rPr>
              <a:t>Критикуя – не переходим на личность. Критикуется предложение, но не его автор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buClr>
                <a:srgbClr val="cc0000"/>
              </a:buClr>
              <a:buSzPct val="25000"/>
              <a:buFont typeface="Wingdings" charset="2"/>
              <a:buChar char="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Calibri"/>
              </a:rPr>
              <a:t>Критикуя – предлагаем свой вариант решения проблемы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Picture 4" descr="Рисунок4"/>
          <p:cNvPicPr/>
          <p:nvPr/>
        </p:nvPicPr>
        <p:blipFill>
          <a:blip r:embed="rId1"/>
          <a:stretch/>
        </p:blipFill>
        <p:spPr>
          <a:xfrm>
            <a:off x="7535880" y="5445000"/>
            <a:ext cx="1512720" cy="9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водные данны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то? – Михаил С., кличка Бандит Что делал? – убега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Где? –  в Парке Культуры и отдыха Когда? –  вчера вечером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к? –  молниеносно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чему? –  шланг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зультат? –  сердечный приступ, больница, реанимация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Picture 4" descr="Рисунок4"/>
          <p:cNvPicPr/>
          <p:nvPr/>
        </p:nvPicPr>
        <p:blipFill>
          <a:blip r:embed="rId1"/>
          <a:stretch/>
        </p:blipFill>
        <p:spPr>
          <a:xfrm>
            <a:off x="7164360" y="5229360"/>
            <a:ext cx="139068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4T09:43:17Z</dcterms:created>
  <dc:creator>WiZaRd</dc:creator>
  <dc:description/>
  <dc:language>en-US</dc:language>
  <cp:lastModifiedBy>Татьяна</cp:lastModifiedBy>
  <dcterms:modified xsi:type="dcterms:W3CDTF">2019-04-03T17:16:45Z</dcterms:modified>
  <cp:revision>23</cp:revision>
  <dc:subject/>
  <dc:title>Школьная форма: за и против</dc:title>
</cp:coreProperties>
</file>